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50F2-A5A7-465F-BDFF-E18EB9EF0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over for peace and prosperity because a lot of the Japanese had an unstable home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over in the 1880s so that they could work on the railroads with the Hawaiians. Japanese can over to the West Coast to cultivate. they grew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A98-4FCC-46B1-B7DD-06E47F19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DEE-4B9E-4B07-88BC-B67E9E50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393-3694-4C84-A770-E9E702CA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64B-32FD-452F-9CBB-DB997ACF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A93-206A-4AB6-BF8A-00E48364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631-4984-41C0-83A1-C94F03B1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8A7-DE4C-46C8-8163-2D5E282A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DE6-0154-4451-AC52-6D307494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3C0-E5F9-4BCD-B0FA-9BB31213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28F-ECAA-46D9-89E6-6A9DBA1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644-5456-44C5-8B0B-49C686D2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004-811F-46DE-B161-326949D4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928B-4BA7-43AA-AA3D-A576E4CC1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ese Immig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Bo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id they come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885 to 1894 28000 moved to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8:03:50Z</dcterms:created>
  <dc:creator>william.boies</dc:creator>
  <dc:description/>
  <dc:language>en-US</dc:language>
  <cp:lastModifiedBy>william.boies</cp:lastModifiedBy>
  <dcterms:modified xsi:type="dcterms:W3CDTF">2011-10-28T18:25:24Z</dcterms:modified>
  <cp:revision>2</cp:revision>
  <dc:subject/>
  <dc:title>Japanese Immigration </dc:title>
</cp:coreProperties>
</file>